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D42F702-30BE-472F-8C73-754179FD98E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6200000">
            <a:off x="3200400" y="-160020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D7DC1F5-237C-4B89-B542-174650C4292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45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520" y="2557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3440" y="1600200"/>
            <a:ext cx="457056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520" y="2557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y of IBIS Waveform Time Offse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1057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IBIS simulators handle offset and aligned IBIS waveform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ke LaBonte, Cisco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IS Summit Meeting, 1 February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BIS Fall Waves Manually Aligned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8480" y="1295280"/>
            <a:ext cx="6481800" cy="5276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918400" y="2209680"/>
            <a:ext cx="2688480" cy="7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BIS mod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lik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ligned IBIS Waveform Case – Lined U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95360" y="1295280"/>
            <a:ext cx="6591240" cy="5276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39280" y="2209680"/>
            <a:ext cx="2670480" cy="106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slight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e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IBIS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2438280"/>
            <a:ext cx="609480" cy="609840"/>
          </a:xfrm>
          <a:prstGeom prst="rect">
            <a:avLst/>
          </a:prstGeom>
          <a:noFill/>
          <a:ln w="2844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057400" y="2437920"/>
            <a:ext cx="2743200" cy="68580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952880" y="3047760"/>
            <a:ext cx="457200" cy="243828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057400" y="3047760"/>
            <a:ext cx="2743200" cy="243828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25214" t="13551" r="14906" b="26452"/>
          <a:stretch/>
        </p:blipFill>
        <p:spPr>
          <a:xfrm>
            <a:off x="2057400" y="3124080"/>
            <a:ext cx="2895480" cy="2362320"/>
          </a:xfrm>
          <a:prstGeom prst="rect">
            <a:avLst/>
          </a:prstGeom>
          <a:ln w="28440">
            <a:solidFill>
              <a:srgbClr val="0183b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No IBIS Waveform Case – Lined U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6591240" cy="5276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71600" y="2438280"/>
            <a:ext cx="914400" cy="533520"/>
          </a:xfrm>
          <a:prstGeom prst="rect">
            <a:avLst/>
          </a:prstGeom>
          <a:noFill/>
          <a:ln w="2844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971800"/>
            <a:ext cx="304920" cy="243828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971800"/>
            <a:ext cx="2666880" cy="243828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438280"/>
            <a:ext cx="2666880" cy="99072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rcRect l="18912" t="23226" r="13329" b="26452"/>
          <a:stretch/>
        </p:blipFill>
        <p:spPr>
          <a:xfrm>
            <a:off x="1676520" y="3429000"/>
            <a:ext cx="3276360" cy="1981080"/>
          </a:xfrm>
          <a:prstGeom prst="rect">
            <a:avLst/>
          </a:prstGeom>
          <a:ln w="28440">
            <a:solidFill>
              <a:srgbClr val="0183b7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5943600" y="1905120"/>
            <a:ext cx="2133720" cy="10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s deleted from IBIS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Normal IBIS Waveform Case - Curren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7440" y="1143000"/>
            <a:ext cx="7056360" cy="5384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54600" y="5181480"/>
            <a:ext cx="280440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CQ currents should 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1676520"/>
            <a:ext cx="278316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SQ currents should 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-33480" y="3462120"/>
            <a:ext cx="9788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s/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7056360" cy="52750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Normal IBIS Waveforms - 2 IBIS Simulator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-33480" y="3462120"/>
            <a:ext cx="9788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s/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ligned IBIS Waveform Case - Curren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6946920" cy="5276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rot="16200000">
            <a:off x="-33480" y="3462120"/>
            <a:ext cx="9788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s/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ligned IBIS Waveform Case - Curren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6946920" cy="5276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rot="16200000">
            <a:off x="-33480" y="3462120"/>
            <a:ext cx="9788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s/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560" y="2057400"/>
            <a:ext cx="392616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currents are 3X silic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7056720" cy="5275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Aligned IBIS Waveforms – 2 IBIS Simulator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-33480" y="3462120"/>
            <a:ext cx="9788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s/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29882" t="15461" r="5636" b="18843"/>
          <a:stretch/>
        </p:blipFill>
        <p:spPr>
          <a:xfrm>
            <a:off x="5638680" y="3581280"/>
            <a:ext cx="3124440" cy="2590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onclusions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86764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simulators differ slightly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mula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 least for one off-the-shelf IBIS mo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simulators differ in how they handle pullup/pulldown turn-on/turn-off timing, and therefore power/ground currents, even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ly ti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BIS waveform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D 95 has been accepted to address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mar was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simulators differ even more in how they handle pullup/pulldown turn-on/turn-off timing when IBIS waveforms ha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rrect time 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tter case the voltage waveform difference between simulators becomes only slightly wo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23622" t="16832" r="5669" b="19501"/>
          <a:stretch/>
        </p:blipFill>
        <p:spPr>
          <a:xfrm>
            <a:off x="6249960" y="1343160"/>
            <a:ext cx="274176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states a buffer must turn off one transistor and turn on the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urn-off usually precedes the turn-on, to avoid excessive “through current” while both are partially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ors must mimic this time offset controlling the pullup and pulldown I/V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models do not directly convey this ti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ors examine IBIS waveforms for 2 fixtures (pulled up and pulled down) to “guess” the turn-on/turn-off ti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aveforms have no offset, simulators must revert to some fallback mode, which is proprietary and likely to v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69960" y="1752480"/>
            <a:ext cx="5273640" cy="4024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0" t="0" r="17640" b="0"/>
          <a:stretch/>
        </p:blipFill>
        <p:spPr>
          <a:xfrm>
            <a:off x="4114800" y="1752480"/>
            <a:ext cx="4343400" cy="4024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ffset IBIS Waveforms (normal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2666880"/>
            <a:ext cx="1828800" cy="838440"/>
          </a:xfrm>
          <a:prstGeom prst="borderCallout1">
            <a:avLst>
              <a:gd name="adj1" fmla="val 18750"/>
              <a:gd name="adj2" fmla="val -8333"/>
              <a:gd name="adj3" fmla="val 146212"/>
              <a:gd name="adj4" fmla="val -53907"/>
            </a:avLst>
          </a:prstGeom>
          <a:solidFill>
            <a:srgbClr val="0183b7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down turns off, resistor pull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3657600"/>
            <a:ext cx="1828800" cy="914400"/>
          </a:xfrm>
          <a:prstGeom prst="borderCallout1">
            <a:avLst>
              <a:gd name="adj1" fmla="val 18750"/>
              <a:gd name="adj2" fmla="val -8333"/>
              <a:gd name="adj3" fmla="val 76388"/>
              <a:gd name="adj4" fmla="val -38541"/>
            </a:avLst>
          </a:prstGeom>
          <a:solidFill>
            <a:srgbClr val="0183b7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up turns on, pulls against resi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3124080"/>
            <a:ext cx="1828800" cy="914400"/>
          </a:xfrm>
          <a:prstGeom prst="borderCallout1">
            <a:avLst>
              <a:gd name="adj1" fmla="val 18750"/>
              <a:gd name="adj2" fmla="val -8333"/>
              <a:gd name="adj3" fmla="val -45138"/>
              <a:gd name="adj4" fmla="val -79254"/>
            </a:avLst>
          </a:prstGeom>
          <a:solidFill>
            <a:srgbClr val="0183b7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up turns off, resistor pull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2057400"/>
            <a:ext cx="1828800" cy="914400"/>
          </a:xfrm>
          <a:prstGeom prst="borderCallout1">
            <a:avLst>
              <a:gd name="adj1" fmla="val 18750"/>
              <a:gd name="adj2" fmla="val -8333"/>
              <a:gd name="adj3" fmla="val 20486"/>
              <a:gd name="adj4" fmla="val -69097"/>
            </a:avLst>
          </a:prstGeom>
          <a:solidFill>
            <a:srgbClr val="0183b7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down turns on, pulls against resi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69960" y="1752480"/>
            <a:ext cx="5273640" cy="402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0" r="19086" b="0"/>
          <a:stretch/>
        </p:blipFill>
        <p:spPr>
          <a:xfrm>
            <a:off x="3962520" y="1752480"/>
            <a:ext cx="4267080" cy="4024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ligned IBIS Waveform (abnormal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2895480"/>
            <a:ext cx="1143000" cy="609840"/>
          </a:xfrm>
          <a:prstGeom prst="borderCallout1">
            <a:avLst>
              <a:gd name="adj1" fmla="val 18750"/>
              <a:gd name="adj2" fmla="val -8333"/>
              <a:gd name="adj3" fmla="val 164324"/>
              <a:gd name="adj4" fmla="val -87916"/>
            </a:avLst>
          </a:prstGeom>
          <a:solidFill>
            <a:srgbClr val="0183b7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down turns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4343400"/>
            <a:ext cx="1143000" cy="609480"/>
          </a:xfrm>
          <a:prstGeom prst="borderCallout1">
            <a:avLst>
              <a:gd name="adj1" fmla="val 18750"/>
              <a:gd name="adj2" fmla="val -8333"/>
              <a:gd name="adj3" fmla="val 15884"/>
              <a:gd name="adj4" fmla="val -62222"/>
            </a:avLst>
          </a:prstGeom>
          <a:solidFill>
            <a:srgbClr val="0183b7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up turn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2057400"/>
            <a:ext cx="1143000" cy="609480"/>
          </a:xfrm>
          <a:prstGeom prst="borderCallout1">
            <a:avLst>
              <a:gd name="adj1" fmla="val 18750"/>
              <a:gd name="adj2" fmla="val -8333"/>
              <a:gd name="adj3" fmla="val 29949"/>
              <a:gd name="adj4" fmla="val -152083"/>
            </a:avLst>
          </a:prstGeom>
          <a:solidFill>
            <a:srgbClr val="0183b7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down turn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3200400"/>
            <a:ext cx="1143000" cy="609480"/>
          </a:xfrm>
          <a:prstGeom prst="borderCallout1">
            <a:avLst>
              <a:gd name="adj1" fmla="val 18750"/>
              <a:gd name="adj2" fmla="val -8333"/>
              <a:gd name="adj3" fmla="val -76300"/>
              <a:gd name="adj4" fmla="val -155277"/>
            </a:avLst>
          </a:prstGeom>
          <a:solidFill>
            <a:srgbClr val="0183b7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up turns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1981080"/>
            <a:ext cx="533520" cy="1524240"/>
          </a:xfrm>
          <a:prstGeom prst="ellipse">
            <a:avLst/>
          </a:prstGeom>
          <a:noFill/>
          <a:ln w="38160">
            <a:solidFill>
              <a:srgbClr val="efb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5715000"/>
            <a:ext cx="2514600" cy="914400"/>
          </a:xfrm>
          <a:prstGeom prst="borderCallout1">
            <a:avLst>
              <a:gd name="adj1" fmla="val 18750"/>
              <a:gd name="adj2" fmla="val -8333"/>
              <a:gd name="adj3" fmla="val -244273"/>
              <a:gd name="adj4" fmla="val -44569"/>
            </a:avLst>
          </a:prstGeom>
          <a:solidFill>
            <a:srgbClr val="0183b7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voltage at same time, regardless of fixture volta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2680" y="5943600"/>
            <a:ext cx="4586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waveform manually shif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imulation Test Circui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6248160" cy="480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V 167MHz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0492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IBIS model, 0 ERRORs, 0 WAR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0492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silicon SPIC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R=70.4m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=5.3e-9 C=1.08e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ohm T-line terminated to mid-voltage V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ed with 3 IBIS simulators + Silicon SP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measured at buffer 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/ground currents measured in 2 sim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0492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AutoNum type="arabicPeriod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with normal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0492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AutoNum type="arabicPeriod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ing waveforms al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0492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AutoNum type="arabicPeriod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waveforms a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8184" t="45629" r="7639" b="19248"/>
          <a:stretch/>
        </p:blipFill>
        <p:spPr>
          <a:xfrm>
            <a:off x="4800600" y="4648320"/>
            <a:ext cx="37288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201680"/>
            <a:ext cx="7056360" cy="5275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 flipV="1">
            <a:off x="2286000" y="2819160"/>
            <a:ext cx="3581280" cy="190476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Baseline: Vendor IBIS, S2IBIS, and Silico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286000" y="5410080"/>
            <a:ext cx="3581280" cy="15264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4724280"/>
            <a:ext cx="762120" cy="685800"/>
          </a:xfrm>
          <a:prstGeom prst="rect">
            <a:avLst/>
          </a:prstGeom>
          <a:noFill/>
          <a:ln w="2844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2819520"/>
            <a:ext cx="1143000" cy="190476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486400" y="5410080"/>
            <a:ext cx="1143000" cy="15264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905120"/>
            <a:ext cx="2514600" cy="17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_comp calculated for s2ibis is about double the vendo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19078" t="11595" r="19293" b="18843"/>
          <a:stretch/>
        </p:blipFill>
        <p:spPr>
          <a:xfrm>
            <a:off x="2286000" y="2819520"/>
            <a:ext cx="3200400" cy="2743200"/>
          </a:xfrm>
          <a:prstGeom prst="rect">
            <a:avLst/>
          </a:prstGeom>
          <a:ln w="28440">
            <a:solidFill>
              <a:srgbClr val="0183b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endor IBIS Fall Waves Offset (Normal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6481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Vendor IBIS Waveform Case - 3 Simulator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5360" y="1295280"/>
            <a:ext cx="6591240" cy="5276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425200" y="2209680"/>
            <a:ext cx="3638160" cy="7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trigger ti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aveform tri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endor IBIS Waveform Case – Lined U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6591240" cy="5276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547960" y="2209680"/>
            <a:ext cx="3417120" cy="7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ed in time to line 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1.25V on fall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14600"/>
            <a:ext cx="457200" cy="380880"/>
          </a:xfrm>
          <a:prstGeom prst="rect">
            <a:avLst/>
          </a:prstGeom>
          <a:noFill/>
          <a:ln w="2844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05120" y="2514240"/>
            <a:ext cx="2971800" cy="76212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105520" y="2895120"/>
            <a:ext cx="228600" cy="259092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905120" y="2895120"/>
            <a:ext cx="2971800" cy="259092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23767" t="15484" r="14487" b="28385"/>
          <a:stretch/>
        </p:blipFill>
        <p:spPr>
          <a:xfrm>
            <a:off x="1905120" y="3276720"/>
            <a:ext cx="3200400" cy="2209680"/>
          </a:xfrm>
          <a:prstGeom prst="rect">
            <a:avLst/>
          </a:prstGeom>
          <a:ln w="28440">
            <a:solidFill>
              <a:srgbClr val="0183b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1:35:19Z</dcterms:created>
  <dc:creator>Mike LaBonte</dc:creator>
  <dc:description/>
  <dc:language>en-US</dc:language>
  <cp:lastModifiedBy>Mike LaBonte</cp:lastModifiedBy>
  <dcterms:modified xsi:type="dcterms:W3CDTF">2007-01-25T14:20:19Z</dcterms:modified>
  <cp:revision>25</cp:revision>
  <dc:subject/>
  <dc:title>Slide 1</dc:title>
</cp:coreProperties>
</file>